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162-05CB-4E71-9B34-F8CEBFAF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6B64-16D5-4FB0-8278-4AAAFDFA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E76-3ADD-4B6F-8CFF-A98BF0C0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4B0-1AD9-4F60-9E22-7332EFAD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6FFC-ECF2-4EC1-85AE-D1B8607C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D878-E9FD-4450-B8BD-D1BF828C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7A1D-827D-4C39-8164-04EEC359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F402-95D6-4047-B78D-04FB0EC5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9A2C-E13E-43B0-A8E0-D785B381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BC65-10B4-43E2-AFE6-D7FE87A1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4E0E-07CA-474D-96DB-C2197581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FFEB-052C-4B67-8BC5-BBD4F042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7391-EB18-4A59-9466-0BA55A0B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2F4D-23D5-4F1F-A08E-D90F972D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9D54-2504-4E9D-A1D2-792BC232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5BC7-C1D7-4D4D-9B6E-249C61FF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76A1-F15A-41F1-866E-54766EA2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14D-80BD-4559-A5AC-55FDA35A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E6F-9CB2-4D7C-9D75-4D99EDF2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2E4-2D97-42A8-B563-E0D8693C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CA1-AD59-4E22-BE7D-399EBD6D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A83-382B-45FD-B4B6-E075D491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930-3B53-47B3-A3C5-50D04EFD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364-1370-44B6-B23E-196FF33B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205B-16F0-40D8-B38A-0D5B5EFFF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9FF9-E2B6-4887-9864-63FE8C609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Verbs Commonly Followed by Infinitive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muchos, mucha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os and muchas are used as adjectives before nou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they must agree in number and gender with the noun that follows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os edificio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ciu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yer:  pocos, poca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s and pocas mean ‘few’ in the sense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 man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When it is singular (poco, poca) it means ‘littl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y pocos hoteles.  There are few hot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y pocas tiendas.  There are few st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y poco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y poca t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odos, todas, todo, toda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and Todas  can mean all or e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 and Toda  can mean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se forms are followed by a definite arti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ODO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los edifici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s las ciudad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 el 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ía   (The whole d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Toda la tarea  (All of the homewor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yudar  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yudar is followed by an infinitiv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’ is placed before the infiniti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yudam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mpiar la ca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ener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ener is followed by an infinitiv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linking wor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os tien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udia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pensar (e---ie) -to pla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 pienso estudiar para el exam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inking word needed before the infinitiv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Ir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r is followed by an infinitive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linking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sábado vamos a mirar una películ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No linking word needed after these verbs when an infinitive comes after them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rar (to ho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INCO PUNTO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INCO PUNTO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o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éano                  pequeñ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os edificios             las montañ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l rascacielos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¿Qu</a:t>
            </a:r>
            <a:r>
              <a:rPr b="0" lang="en-US" sz="4400" spc="-1" strike="noStrike">
                <a:solidFill>
                  <a:srgbClr val="e5ffff"/>
                </a:solidFill>
                <a:latin typeface="Arial"/>
                <a:ea typeface="ヒラギノ角ゴ Pro W3"/>
              </a:rPr>
              <a:t>é hay en tu pueblo?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Hay muchos edificios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Hay lugares intersantes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á cerca de un lago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1:46:14Z</dcterms:created>
  <dc:creator>Ed Center RLASD</dc:creator>
  <dc:description/>
  <dc:language>en-US</dc:language>
  <cp:lastModifiedBy>Ed Center RLASD</cp:lastModifiedBy>
  <dcterms:modified xsi:type="dcterms:W3CDTF">2010-11-05T16:44:03Z</dcterms:modified>
  <cp:revision>1</cp:revision>
  <dc:subject/>
  <dc:title>Verbs Commonly Followed by Infinitives</dc:title>
</cp:coreProperties>
</file>